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D0B8-A3E8-4146-8BFD-517292C50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AA06-84CB-4438-8294-63BE8FF2C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C5C1-8ECF-41CB-B020-F87C0BBEA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950A-F998-4E72-A7E0-5A3805D7A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4D3E-FA4A-4D34-AB99-BDC8C096B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8E82-EB88-4C5A-BDF9-6EB51C868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do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843F-05EE-4189-B09A-2F84D0982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econd question is rarely asked, but i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not read carefully and say 2.90 and 4.60– so need to attend to decoding problems or checking that you meet al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have difficulty with the actual calculations with these complex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be very inefficient, e.g. start at 7.50, split it one step at a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get one answer and think that there are no other answers because there is always one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DB04-0971-4244-9F26-7586DA8EC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not read carefully and say 2.90 and 4.60– so need to attend to decoding problems or checking that you meet al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have difficulty with the actual calculations with these complex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be very inefficient, e.g. start at 7.50, split it one step at a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get one answer and think that there are no other answers because there is always one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1A56-FA87-4BF0-B48E-415EC466C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FED2-76FE-4897-AB2D-4C3FFA68F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53C6-4ACB-4E71-A6BB-0793A983A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88A2-2FC9-4372-9AC9-AD2B67D02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D633-8906-40BB-9E07-3EC673E88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8A3F-99EF-4932-8A00-F2CF6F643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B4B7-6DA6-4750-A95A-2D5756BDE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1D80-87A6-4F8E-88DB-80E358220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6297-E69C-4CFB-A3B1-EB0FD1D44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26D1-30EB-4189-8DDC-02A4E76EF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1421-A1CB-4D0A-B290-23F39B8CB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73F9-4665-4E55-B829-C0942CE17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6709-067B-4DE8-A9E5-ADB5A7C23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39A0-D146-47A0-BB5C-6000EC857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B1C7-7216-40E9-8C7F-C9B4576C9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D860-F9C1-42A4-ABB3-0B147EDFA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6794-2C1F-41BB-BED2-7F508BDBD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944F-26B0-4D33-9926-6A99624D4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A2B0-72A1-4307-9071-EA306D467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DB8B-C27F-4284-967B-75DAC2BFF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2139-48CB-4944-9DB4-86491863C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have used positive coordinates if I see this 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8538-9AF5-404C-9092-533E8E658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48DC-6CAF-4E52-9037-60A796464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8D4D-7696-4D19-A500-FC545F3F2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4823-FED7-40D4-B490-2AADFEBFC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61A8-E497-4106-962E-E13DCA086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01AC-3E48-4EA9-A765-F78A0CD17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0B5C-C547-4400-BF79-82C3A84C8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AECF-0060-414F-96E5-37A764DEE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A254-0E33-4B26-A2B9-9AD65584E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150F-C7BA-4CE2-8B9C-3F3E2FC69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EC76-3F70-485D-89D5-E2613CF56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F64F-53AC-4421-AE6E-744E1255F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AF42-C205-40A8-93FF-000FAEC78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80E0-4759-49B1-9A60-5A98FE258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how different but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349C-001F-46D4-8CC1-4C4D3C42D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1493-CFA3-40F1-8AED-FEBA86391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F4E0-E9C3-45C1-B9BD-6CDDB2AD1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170B-88A3-4EAF-B4B0-308F64325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1 that summarizes previous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08E2-0B07-4041-B1FF-AA3A85B91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B66E-6CE3-4852-9214-B8A133654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790E-8C81-45C7-A619-6186C0637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8C7E-AB1C-409D-8C0A-293EF9334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CF20-8C90-443C-B409-317EE57C4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57B8-F6E9-443C-AAE7-CEE39F5CC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8131-17DF-4FFC-AABE-4368E45A0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y = 4x – 4 or y =  4(x-2)^2 + 4 or y = 2x^3 -8x^2 +6x +8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4504-27D6-4A71-B765-EBA8A058E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0DF7-3A34-4224-A5D3-E0AF4B040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9D6C-9A87-4551-B89F-177528AF6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0C8E-5F79-44C6-953A-8A8C716AB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951F-FD86-4907-968B-2B0914C4C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1CB8-1FEC-4E50-A00B-5F582D5DF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ECDA-D1AF-497B-9B59-1D6339432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8C42-15CA-40F8-9C29-515B9E5C4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E4A4-9A4B-434E-BBE8-CE15F9C8E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AF4E-1A02-4E96-82AE-E494CAFD6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2A57-EA03-4792-B6B8-94CFC33C3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9C0E-1C7D-4328-AB32-6A68CFBC1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187C-C0A1-4653-A239-3C3918C00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CBC9-1E37-46D0-A7A1-16B4ACF44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95B7-E866-4935-BBC3-FB26D6664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28B5-6359-4F04-A6AD-DC7584E0F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E06E-BAC5-45FB-8C07-353CE875A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3D37-E515-459D-9DE9-B7A47687D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4F48-9A94-461D-B173-DDA401F78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8C59-AD0B-432D-BF99-DCBFB4822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at tables and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1FE1-3085-400E-8F27-4CC6C2E8C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A5F8-42F1-47E3-B186-88BC62BEE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049E-686D-4760-9E33-737B9B6F2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BA7A-E4DF-4BD3-8381-546B6151B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BF9B-2303-4BCD-ABE3-78A8CE46E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2391-B1F5-423B-B020-999C70F5C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27D2-E509-4F87-AC96-33CBF2A3D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394E-2D92-46CF-A199-98E79EA4B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216B-4D72-41A3-A6DB-2DFE12242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D878-AF70-4354-951F-4D764AF9A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00AE-1E26-412E-9DA1-7AEFA15E8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1583-6350-40C6-BF2C-01D60C9B2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 this might be tough for some participants. Remind them what the quadratic formula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28EB-0E87-4739-AC4A-9A30218B4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2822-1E9D-43A3-BFDC-382770353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DEE3-2622-4B19-88FB-3C5BE8EB6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B14D-B51C-4A25-A22A-D803626DB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840B-F748-43A8-BE99-E427C35F0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CAB6-6198-4E5C-AB2E-F7A4E65E1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12E1-AA8E-4D61-97FD-EDF8B4603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0E6C-70F4-4D98-A2D9-5C7B6A6EC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3AA6-91D8-4DCB-B9BD-DB611E301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D3C3-588E-4F42-983C-0146A5304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5F97-8371-45CD-841F-2F9E4F1FE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2BBC-1183-401B-8CBA-5EB76B662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083A-DA71-4BE6-80E0-A42BAD8F6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E195-56E6-46A4-B6AF-8E4FE32BB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1C2E-2664-460E-AF63-31F8BAD1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F947-2A62-4B6A-9F67-C8D3EFD4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E2C3-39E2-4D29-AEA7-5445650B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FD71-AEB8-4DC4-A016-895514E6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99C4-56E6-494C-BEAD-96561124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2063-C2CF-4D65-B2D1-E973593C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86C5-9E89-472B-9F53-536C258C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F32A-57A6-4542-BC91-75982FF0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ABB2-F0B5-4783-9570-073DEEE1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09B5-E0D9-4AB0-A863-9E650EA2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3486-3DBE-4E0F-9290-AE7EACAE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231-6EBD-408A-9994-5EB5DB27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C8BA-D3D3-428E-A236-108399C803C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7" descr="Untitled-1"/>
          <p:cNvPicPr/>
          <p:nvPr/>
        </p:nvPicPr>
        <p:blipFill>
          <a:blip r:embed="rId2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304920" y="5638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Day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GAINS_Globe_70smws"/>
          <p:cNvPicPr/>
          <p:nvPr/>
        </p:nvPicPr>
        <p:blipFill>
          <a:blip r:embed="rId1"/>
          <a:stretch/>
        </p:blipFill>
        <p:spPr>
          <a:xfrm>
            <a:off x="685800" y="838080"/>
            <a:ext cx="2637000" cy="4953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4572000" y="2897280"/>
            <a:ext cx="444492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Professional Learning for Mathematics Leaders and Coaches—</a:t>
            </a:r>
            <a:r>
              <a:rPr b="0" i="1" lang="en-US" sz="36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Not just a 3-part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id we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914400" y="1676520"/>
            <a:ext cx="741672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r goal is about understanding or about important mathematical thinking and not just “doing”, your consolidation question has to reflect th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7427-208C-44D5-9DBE-E8175AA34D7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6074-6170-4F27-8F1C-555178D88B6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143000" y="2438280"/>
            <a:ext cx="7315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had a lesson goal tied to a big idea. Did I achieve my lesson go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y opening it up, I continue to allow for exposure of student think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pen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 let’s change direction a bit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361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have been focusing on the ma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w let’s focus on the ki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inking about differenti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990720" y="2819520"/>
            <a:ext cx="741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look at a problem to see how thinking about difficulties students might affect the task you s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0E5F-0868-4BF6-B04F-5E08B91772C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uppos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066680" y="1828800"/>
            <a:ext cx="7417080" cy="85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ant your students to solve this probl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ndon and Alexis counted their money. Together, they had $7.50, but Brandon had $2.90 more than Alex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1D52-DE3A-49C3-A595-1ECA43E59F2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irst solv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 both p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066680" y="1828800"/>
            <a:ext cx="7417080" cy="78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on and Alexis counted their money. Together, they had $7.50, but Brandon had $2.90 more than Ale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) How much did each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) How do you know there are no other answ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B09A-1F33-4B82-B359-FF9562CEFD0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talk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066680" y="1828800"/>
            <a:ext cx="7417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make a list of a “top 5” anticipated problem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ABB3-A693-49CE-AABD-6EBB090F615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66680" y="1828800"/>
            <a:ext cx="7417080" cy="71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cuss at your tab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knowing these potential problems affect your instructional plan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AE49-E823-4CF0-B68F-7B7D2E112F7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t might lead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066680" y="1828800"/>
            <a:ext cx="7417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nking about ways to differentiate instruc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7C95-272C-4894-80A0-F6F23B5F410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990720" y="259092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ocus on big ideas (to have something big enough to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CFD5-CD11-419A-B7DF-74E5658C8F2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990720" y="259092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or assessment (to know the need to and direction to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313A-7DBD-4B73-BA8F-4006C61AB71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685800" y="9907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ur Corners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990720" y="19051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 to the corner for the View and Discuss between-session opportunity you took advantage o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D9CD-01FE-4F6F-A82E-5F15DC9C50F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90720" y="259092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ice (to actually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3E11-1875-4DF1-A8CA-1C2B8590D2F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e do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990720" y="2590920"/>
            <a:ext cx="7416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nventional approach to differentiating is to scaffold-- presenting problems in bits. Maybe this is not the only or the best way, to differentia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E363-1505-4B11-B70E-CAA22DDF9A8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ur focus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990720" y="2590920"/>
            <a:ext cx="74167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r focus will be on two strategi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A65D-1DF5-4649-B609-F734786E03B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’ve met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990720" y="259092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 Day 1’s open question about creating a pattern that grew slow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CB08-DB1E-4187-B1CD-0C286BC3F4B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’ve met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90720" y="2590920"/>
            <a:ext cx="741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 Day 1’s task where you matched questions to big ideas but different groups used different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EBE7-22DE-467E-976C-304BF1C344A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nticipated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990720" y="2590920"/>
            <a:ext cx="7416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y knowing the “problem” some grade 7-9 teachers might have with grade 11 or 12 content, we differentiated the task appropriately (I hope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986F-00A7-403E-82D4-058E7FA938C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n parallel task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0720" y="259092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ere looking at the same instructional goal, with the “problem”  (obstacle) remov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80A6-9CBA-4591-9553-057BB1C6C6C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990720" y="259092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e useful particularly for the main instructional activity (the action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A916-2502-4920-BEFF-9145BBBD6F6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MATCH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863640" y="2658960"/>
            <a:ext cx="7416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AA3C-D823-437D-A09E-453DC2099E4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Picture 1.png"/>
          <p:cNvPicPr/>
          <p:nvPr/>
        </p:nvPicPr>
        <p:blipFill>
          <a:blip r:embed="rId1"/>
          <a:stretch/>
        </p:blipFill>
        <p:spPr>
          <a:xfrm>
            <a:off x="1365120" y="2222640"/>
            <a:ext cx="1181160" cy="1600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Picture 2.png"/>
          <p:cNvPicPr/>
          <p:nvPr/>
        </p:nvPicPr>
        <p:blipFill>
          <a:blip r:embed="rId2"/>
          <a:stretch/>
        </p:blipFill>
        <p:spPr>
          <a:xfrm>
            <a:off x="1295280" y="3429000"/>
            <a:ext cx="1193760" cy="1752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Picture 3.png"/>
          <p:cNvPicPr/>
          <p:nvPr/>
        </p:nvPicPr>
        <p:blipFill>
          <a:blip r:embed="rId3"/>
          <a:stretch/>
        </p:blipFill>
        <p:spPr>
          <a:xfrm>
            <a:off x="1295280" y="4648320"/>
            <a:ext cx="1181160" cy="193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e coul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990720" y="2590920"/>
            <a:ext cx="741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vide alternate versions of the money problem to deal with some of those difficulties students might have. What might they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905B-C822-471E-A4E6-6648DA30BB5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685800" y="9907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ur Corners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90720" y="19051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re some of your observations and thoughts with those from other boards in your corn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71B9-3501-415E-91A9-872DF38434A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 different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pose this: The slope of a line is -2/3. Tell us the coordinates of two points on the 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F84E-C38D-4B75-A50A-411678B0DB7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 could anticipat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066680" y="28954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negative slopes cause trouble and recognize that some students need more time before they are ready for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2FEF-2728-477F-8EFA-E99CD2465F4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Your goal is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pect students to use information about the slope of a line to tell you other things about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F5AE-92A7-4170-947E-35B9AD09091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 mayb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e students could work with only positive slopes and it would be ok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CB9E-6D45-4FE2-B72B-2BDBB7ED503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4876920" y="2057400"/>
            <a:ext cx="373356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 of slope 2/3 goes through (-4,-1). What is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80B8-449C-4210-956C-C12AFBF86A3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762120" y="2149560"/>
            <a:ext cx="373356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 of slope -2/3 goes through (-4,-1). What is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B4F2-C24A-44ED-A4CD-CB1BF1A3E5E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762120" y="2149560"/>
            <a:ext cx="77724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you know which way your line slants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6204-CB04-4ED3-89A5-C57A55DC1A1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762120" y="2149560"/>
            <a:ext cx="777240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(-4, 3) be on your line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(-3, 0) be on your line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3B30-809F-41E1-BC3D-6A8CE709EAE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762120" y="2149560"/>
            <a:ext cx="77724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need to know to write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you get that inform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3C70-5ED7-42B4-8BC7-7DF40FEA336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762120" y="214956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your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you be sure you’re r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Basic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6969-2E2E-4E70-9543-16708E295A5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762120" y="214956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sa : $1.15 in quarters/nick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838080" y="3200400"/>
            <a:ext cx="77724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my : $0.80 with half the quarters/twice the nick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any of each for Lis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685800" y="9907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sponses to Sticky Note Pile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066680" y="2362320"/>
            <a:ext cx="741708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try this activ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see as its val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concerns do you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C19A-21BD-44F4-A53C-BD3D4FD46E4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nstructional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68E2-7239-4336-9925-41740F6E683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85800" y="2720880"/>
            <a:ext cx="7772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is problem is a real-life application of linear relations (actually involving two relationships). The solution method shouldn’t mat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EF6C-A93D-44EF-A539-E85C41D1CE6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762120" y="2149560"/>
            <a:ext cx="77724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ice 1:  Use equations to model the problem and then solve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ice 2: Solve the problem using only number think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0299-3ABF-48B2-8E2A-4E2D2B20E04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762120" y="1905120"/>
            <a:ext cx="777240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need to know how much each coin was worth or just the relationship between th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know that Amy had an even number of nicke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373A-A5C2-42B9-9446-E74E436DAC8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762120" y="2149560"/>
            <a:ext cx="777240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you be sure that Amy had an even number of quarter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you know that each girl had fewer than 5 quart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3066-FBF6-4E92-88CE-B8C5968B98D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762120" y="214956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solve the problem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you know your solution is corre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nother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E33C-ED49-4A2E-B539-710A883FD8C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762120" y="2149560"/>
            <a:ext cx="7772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ant students to make the connection between operations with polynomials to operations with numbers by representing the polynomi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nother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1954-35E3-48D8-A041-C7CD94C0499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762120" y="214956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peration does not have to be the iss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 the choices might b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24F2-B8EB-4E4D-8B02-3F195F5F20D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762120" y="1981080"/>
            <a:ext cx="3200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algebra tiles to model two polynomials that add to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+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343400" y="1828800"/>
            <a:ext cx="36576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algebra tiles to model two polynomials that multiply to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+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E83F-B889-4F1B-8C8B-8AEBB887CEA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762120" y="1981080"/>
            <a:ext cx="7696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algebra tiles show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+2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there any other way to model that polynom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C956-7EA7-48FA-BA61-50DB9E3735E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762120" y="1981080"/>
            <a:ext cx="7696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arrange your ti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figure out how to sta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85800" y="99072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sponses to professional learning protocols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066680" y="2362320"/>
            <a:ext cx="7417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those of you who have been coached or been a coach, which of these protocols is one requiring more focus for you? Wh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1B53-32F7-4534-9969-AA0053A922A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283E-B0C4-4DED-9FB3-DCA05D2DC0F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62120" y="1981080"/>
            <a:ext cx="7696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there any other way you could have arranged the ti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4621-3124-4942-9837-05C875C0CFA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762120" y="1752480"/>
            <a:ext cx="76960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your group, choose one of the suggested set of parallel task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velop some common consolidating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38E0-BF1E-4882-BB09-A28E0E09BF2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762120" y="1752480"/>
            <a:ext cx="7696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 to the one of the four corners for people who did your task. Share your questions with another group in your corn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5FF0-3290-4977-A131-B4EB22B07B6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762120" y="1752480"/>
            <a:ext cx="7696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think about open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1955-9F78-4DE1-8041-73F2E61D4DE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Picture 1.png"/>
          <p:cNvPicPr/>
          <p:nvPr/>
        </p:nvPicPr>
        <p:blipFill>
          <a:blip r:embed="rId1"/>
          <a:stretch/>
        </p:blipFill>
        <p:spPr>
          <a:xfrm>
            <a:off x="0" y="1349280"/>
            <a:ext cx="9144000" cy="415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990720" y="1981080"/>
            <a:ext cx="304776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be relation… sort of like this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5F16-D2D8-4800-BC4C-97401E3D016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5105520" y="1905120"/>
            <a:ext cx="304776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ype of relation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e underlying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which big idea do you think this question might relat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AEB1-4D4D-4911-89B5-382797C02C7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990720" y="220968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p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passes through the points (2,4) and (3,8).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escribe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lation the graph represen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5EE8-9AC9-42EE-A64F-CC9051F42FB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0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3"/>
          <p:cNvSpPr/>
          <p:nvPr/>
        </p:nvSpPr>
        <p:spPr>
          <a:xfrm>
            <a:off x="1066680" y="22096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t 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A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in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passes through the points (2,4) and (3,8).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rite the equatio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the 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7485-880D-4F2C-AAA6-501863657C1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made it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066680" y="28954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ade the first question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32F4-A07E-4E74-945E-1B6A0B9957A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685800" y="9907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Questions from 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066680" y="2362320"/>
            <a:ext cx="741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questions are lingering from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AB58-A038-419E-BEB8-DA7EF5BB4D3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990720" y="2057400"/>
            <a:ext cx="251460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Write an equation and solve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10DF-00A8-45C6-9B97-2F90481AFF3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572000" y="1981080"/>
            <a:ext cx="41911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e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Solve 3x-2 = 8.  Describe your strateg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1155600" y="990720"/>
            <a:ext cx="67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sing open questions for assessment for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066680" y="28954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open question, as a minds-on activity, provides valuable info about how to proceed with your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4499-A66D-4775-A5B5-3632E7DC7DA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Picture 1.png"/>
          <p:cNvPicPr/>
          <p:nvPr/>
        </p:nvPicPr>
        <p:blipFill>
          <a:blip r:embed="rId1"/>
          <a:stretch/>
        </p:blipFill>
        <p:spPr>
          <a:xfrm>
            <a:off x="0" y="2629080"/>
            <a:ext cx="1181160" cy="16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ight tell you that there are missing prerequisites that will get in the w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25E2-CE7A-4A87-84B1-09FE8F7F501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ight tell you that your students already know what you were planning to tea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B2B6-3201-4E23-996C-F8D8F6C20AF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mparing open and parall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066680" y="289548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questions are somewhat more vag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etimes an open question can replace two parallel on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B4F3-D495-449C-91B0-2AC1B9F17A1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990720" y="220968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 the parallel task where we used a positive slope vs a negative one, we could have sai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3880-E1C0-4D2F-A60F-F5B8B52F96F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990720" y="220968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 goes through (-4,-1). Choose its slop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ce you’ve chosen it, tell the equation of the lin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4EC1-3DDC-42CF-9463-90E2FB3A01C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88A6-2A87-42D9-9DC0-B8DADC5727A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066680" y="205740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pen questions can work in all three parts of a three-part less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ere to use 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ED73-AA67-4908-B1C3-E9EB03CD05C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066680" y="205740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example, a minds-on open question might be: Create two linear growing patterns that you think are really simil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1CB7-1ADF-4488-82BF-BF6054DEDDE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066680" y="2057400"/>
            <a:ext cx="731520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could as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makes them simi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are their pattern rules simi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685800" y="9907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ore sh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66680" y="236232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do any activities related to our work between session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n you share what happen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FF2D-D28A-4041-9E10-6D3B9491718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205A-5EF1-4E75-A9B5-812853824A3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a lesson on inequaliti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reate a mathematical statement where any number greater than 10 is a possible soluti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me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B109-C632-4BC7-A866-94EA0733FCA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066680" y="2057400"/>
            <a:ext cx="73152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a lesson on quadratic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ich two graphs do you think are alike?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-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me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89E9-35CF-44A5-A345-FA2961E2055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066680" y="2057400"/>
            <a:ext cx="7315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would you open up this question (or is it open now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ll in the missing valu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143000" y="4572000"/>
          <a:ext cx="6095880" cy="115884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DE35-436D-4B48-B564-3ACB8A6D5D1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or the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E068-08BC-4C02-8506-AEE016D80F1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066680" y="1676520"/>
            <a:ext cx="7315200" cy="74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oose two different values for the missing amounts. Make them different kinds of numbers:    3x –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4 +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raw a diagram that would help someone understand how to solve your equ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n Ope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7329-97A8-4517-871E-2399391EB92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066680" y="2057400"/>
            <a:ext cx="731520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could this activity help the strugg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could it help the strong stu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math is lear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n Ope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DF29-82E2-4C9E-9573-A5E519F4988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066680" y="2057400"/>
            <a:ext cx="73152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linear growing pattern has 50 as the 2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erm. Create a bunch of possible patter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does where your pattern starts relate to how fast it gro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ore ac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2B69-53F0-4072-A5FC-6DEC48C19A7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wo lines intersect at (1,3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is much steeper than the ot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could the pair of lines be? Give several possibiliti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ore ac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3A77-3777-4A4E-B496-CE4D9B65E14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066680" y="2057400"/>
            <a:ext cx="731520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mpare the roots of these three equations. What do you notice? Why does it hap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17x + 4 = 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37x + 6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8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65x + 8 = 0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ore ac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5791320" y="4191120"/>
            <a:ext cx="3124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Add another question that works the sam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1A59-EB59-4C15-B51D-9CF6EC52E89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066680" y="205740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n you make up other sets of quadratic equations that have something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ore ac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685800" y="99072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id we do last ti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990720" y="1905120"/>
            <a:ext cx="741672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looked at the ideas tha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have to focus in on a goal you can accomplish in one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D798-CF93-4CC4-8085-345B2264852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0EBE-1107-4D05-B941-7D0DB8C2A70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trig function goes through the point (π,7). What could it be? List a bunch of possibiliti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ore ac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2BD6-46AE-40D4-9AAE-D79D9176AF1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066680" y="2057400"/>
            <a:ext cx="73152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ke this more op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combination of $2 coins and $5 bills have a total value of $1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CCC2-03A1-4312-9AE6-F64E8D3030A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066680" y="2057400"/>
            <a:ext cx="73152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pen questions are also very appropriate for consolid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F6D4-528C-42AF-9A47-994418E422B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066680" y="205740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agine that students have learned how to solve linear equations, e.g. 4x – 2 = 9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57E8-C9E6-4F81-936C-E72E265D898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066680" y="2057400"/>
            <a:ext cx="7315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thout solving this equation, how do you know that the solution has to be posi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4x + 7 = -5x +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BC1A-CCBE-420B-B021-FB9C04D21EB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066680" y="2057400"/>
            <a:ext cx="731520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are these equations alike and differ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 – 2 = 6 + 9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 – 2 = 6 + 9x – 6x -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r 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5C34-C34F-4197-9666-FD598603F39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agine that students have learned the quadratic formula for solving quadratic equa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154A-98EB-40E9-8A9C-7851B7733BF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sides the solutions to    a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bx + c = 0, what else does the quadratic formula tell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7" descr="Picture 1.png"/>
          <p:cNvPicPr/>
          <p:nvPr/>
        </p:nvPicPr>
        <p:blipFill>
          <a:blip r:embed="rId1"/>
          <a:stretch/>
        </p:blipFill>
        <p:spPr>
          <a:xfrm>
            <a:off x="4038480" y="4038480"/>
            <a:ext cx="3314880" cy="112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92D3-0368-4D8E-863D-53A4DD161A3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066680" y="205740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is solving a quadratic equation like solving a linear one? How is it differ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459A-29E6-446A-BA90-4F7651CB169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parabola is very narrow and one parabola is very wi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n you be sure about anything about how their equations diff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id we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041480" y="2057400"/>
            <a:ext cx="7416720" cy="74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have to ask a question that consolidates that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can use the responses to that question as useful assessment for learning inf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D637-7116-40B9-96BC-C6EDD73682A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2710-4E06-433E-A77C-14B55BA9B9B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066680" y="2057400"/>
            <a:ext cx="7315200" cy="62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a lesson on trigonometric func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must graph a trig function. In what situation might you want a y-axis going from -100 to 1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me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6218-280B-4094-9800-7DD03222C11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066680" y="2057400"/>
            <a:ext cx="7315200" cy="68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reate an open consolidation question that you might use having taught students a lesson about how to solve equations of the for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x +b = cx + d  (e.g. 2x – 4 =3x +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ECD1-57D0-4F81-AA7E-C897392D958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1066680" y="205740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ten you can start from an existing lesson and open parts of it 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tarting from a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823F-491D-484F-BC24-2CBE5E1B93C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066680" y="2057400"/>
            <a:ext cx="73152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strategy is to start with an answer and create a question. For example, a  growing pattern has 20 as the 9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erm. What could the pattern 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B060-4040-4259-B29A-C2EC2566F2F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066680" y="2057400"/>
            <a:ext cx="73152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other is to ask for similarities and differences. For example, how is factoring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5x+6 like and different from factoring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 2x – 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9C00-B526-436B-B95B-12DF7BFA868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066680" y="205740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other is to let the student choose values. For example, ask students to choose values for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 graph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 +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DF7D-E6BB-4DC1-A810-7315A54722A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1066680" y="205740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rom the other examples we have seen, you can see that these are not the only three strategies but they are helpfu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ther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2787-9485-4289-9816-AE00AFA36FE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143000" y="2438280"/>
            <a:ext cx="7315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nk about why you might use an open question in each part of the lesson. Would your reasons be the s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scuss this in your gro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027E-583A-4AD0-BDF8-9BBD684B3E5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143000" y="2438280"/>
            <a:ext cx="73152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ssessment for learning is your foc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open question should be accessible to virtually any stud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pen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6F47-1A20-4441-A025-699829D3FA6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143000" y="2438280"/>
            <a:ext cx="7315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s is really an unscaffolded investigation, whether large or sm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udents who need scaffolding receive it, but not everyone needs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pe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5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00:10:54Z</dcterms:created>
  <dc:creator>PSteele</dc:creator>
  <dc:description/>
  <dc:language>en-US</dc:language>
  <cp:lastModifiedBy>Marian Small</cp:lastModifiedBy>
  <dcterms:modified xsi:type="dcterms:W3CDTF">2009-10-11T01:26:36Z</dcterms:modified>
  <cp:revision>298</cp:revision>
  <dc:subject/>
  <dc:title>Slide 1</dc:title>
</cp:coreProperties>
</file>